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FB135-D4FE-4B59-862E-B79A35B8C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2B386-96AF-4642-AF6E-BBC9913F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49A6-C229-43D1-943A-A6DA823F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33C-C355-42F5-A79D-B45E68C3B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E343-FE96-4A59-B7E8-7E843402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D3D-0150-491C-8F90-EC297EA5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05F6-79DF-4191-A63E-AD4DE9C04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6512-3EF1-4659-A8A3-9BD6D3154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0004-1837-43BE-A021-953177432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0C3E-9C30-453D-8575-8D88D7E5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1D3D-702E-4BA8-A9AB-54F7FAB3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AAD2-1319-4E75-8714-156B70DE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FB1CB-7818-4965-BBBB-D88C827DEF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2.bp.blogspot.com/_5WgCbrdqVTY/SwheDlWd2kI/AAAAAAAAJdo/MeVfsclD0C4/s1600/el-viaje-de-eneas1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 VIAJE DE EN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773360"/>
            <a:ext cx="8532720" cy="45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19:15:07Z</dcterms:created>
  <dc:creator>AUDIOLEASK</dc:creator>
  <dc:description/>
  <dc:language>en-US</dc:language>
  <cp:lastModifiedBy>AUDIOLEASK</cp:lastModifiedBy>
  <dcterms:modified xsi:type="dcterms:W3CDTF">2010-02-24T19:16:32Z</dcterms:modified>
  <cp:revision>1</cp:revision>
  <dc:subject/>
  <dc:title>EL VIAJE DE ENEAS</dc:title>
</cp:coreProperties>
</file>